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367E-A0C4-4087-812E-F9D10BDA4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6B24-E4CC-4B24-9A5C-3ED76007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13F1-417D-4BC9-8FED-07BAE4283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3784-16FF-435A-BEFE-83D44D43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BBCD-CE23-408C-9EE6-03350B31D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C452-C2B0-4D29-AB92-8CBF9459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ED2A-C4DD-436F-94AE-8328D505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C66F-D5E1-4DD7-A7AE-7A7BB214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E7F2-F0DA-4F11-A843-C3152136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6F7F-790B-406F-AACF-50CC11D9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8C89-5E77-437F-97C6-CAAD0761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8C4B-8BDC-4E02-8963-8912C7F6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ED53-4429-4FAC-88E3-10F4C7363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1905120"/>
            <a:ext cx="7391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you are in my classroom and in a “breakout” ro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t’s a separate “study” ar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check out some of the feature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lick on the “next page” button on the bottom left of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hi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creen – it’s the “right” arr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990720" y="4876920"/>
            <a:ext cx="76176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eakout room is a little differen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t depends on how each onMATH teacher set up their “classroom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….each breakout roo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 whiteboar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imilar to a smartboa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 chat po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or you to communicate with th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nMATH teach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n attendee lis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o that you can see who else is in this “room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of us may have added some web links, files to share, etc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lick to the next page to see a sample “breakout room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what a breakout room might look like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33520" y="1095480"/>
            <a:ext cx="7391160" cy="4543200"/>
            <a:chOff x="533520" y="1095480"/>
            <a:chExt cx="7391160" cy="454320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533520" y="1095480"/>
              <a:ext cx="7391160" cy="45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 txBox="1"/>
            <p:nvPr/>
          </p:nvSpPr>
          <p:spPr>
            <a:xfrm>
              <a:off x="533520" y="1095480"/>
              <a:ext cx="7391160" cy="4543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3520" y="5421240"/>
            <a:ext cx="7391160" cy="293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160" y="6019920"/>
            <a:ext cx="210564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lick to the next page to continu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16765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22096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 p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4724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8288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dee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45720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l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ay, let’s hit a few button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 in the right corner, you will find the ic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whiteboard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icon and the toolbar will app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pencil tool to write something all over this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he colour; change the thickness of the pe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s when you click on the eras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few numbers on the page then click the backwards arrow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would be a better tool to use when you make an error and you want to erase just one or two things (instead of erasing EVERYTH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409680" cy="371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5440" y="5715000"/>
            <a:ext cx="210564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lick to the next page to continu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try the some of the other tools…such as the marker tool, line tool, shapes, text, stamper….can you change the size or colo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s if you have a question?  Find the icon to “raise your hand” in this virtual class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440" y="5715000"/>
            <a:ext cx="210564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lick to the next page to continu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you are familiar with the tools, you are ready to start using the s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looking forward to seeing you again at  onMA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43:43Z</dcterms:created>
  <dc:creator>officeuser</dc:creator>
  <dc:description/>
  <dc:language>en-US</dc:language>
  <cp:lastModifiedBy>officeuser</cp:lastModifiedBy>
  <dcterms:modified xsi:type="dcterms:W3CDTF">2010-02-04T15:25:01Z</dcterms:modified>
  <cp:revision>7</cp:revision>
  <dc:subject/>
  <dc:title>Intro</dc:title>
</cp:coreProperties>
</file>